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1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A7F49-EBDF-4662-A866-F6702D2EB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69BDB-DBDF-414C-89C9-16A7C4114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464E0-73E8-4E6A-A08C-87670006D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0D036-135B-47C5-8794-388EED725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D1152-D570-482F-B455-AF53EA781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0880" y="371844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5724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3668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9212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8088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13668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9212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83584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24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0880" y="371844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5724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3668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89212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8088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3668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89212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83584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724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.jpeg"/><Relationship Id="rId7" Type="http://schemas.openxmlformats.org/officeDocument/2006/relationships/image" Target="../media/image5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6156360" y="5943600"/>
            <a:ext cx="301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152280" y="114480"/>
            <a:ext cx="2592360" cy="3427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6"/>
          <p:cNvSpPr/>
          <p:nvPr/>
        </p:nvSpPr>
        <p:spPr>
          <a:xfrm>
            <a:off x="8381880" y="6172200"/>
            <a:ext cx="60984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A76D8-13C8-4C7C-A07E-918EFCE3697D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254160" y="6172200"/>
            <a:ext cx="2878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er Dept name in Slide Mas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0" y="609588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-2133720" y="2631960"/>
            <a:ext cx="4267440" cy="4226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447920"/>
            <a:ext cx="6854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6156360" y="5943600"/>
            <a:ext cx="301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2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1676520" y="830160"/>
            <a:ext cx="1218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Picture 14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5" descr=""/>
          <p:cNvPicPr/>
          <p:nvPr/>
        </p:nvPicPr>
        <p:blipFill>
          <a:blip r:embed="rId7"/>
          <a:stretch/>
        </p:blipFill>
        <p:spPr>
          <a:xfrm>
            <a:off x="227160" y="357120"/>
            <a:ext cx="3049560" cy="405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6" descr=""/>
          <p:cNvPicPr/>
          <p:nvPr/>
        </p:nvPicPr>
        <p:blipFill>
          <a:blip r:embed="rId8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17"/>
          <p:cNvSpPr/>
          <p:nvPr/>
        </p:nvSpPr>
        <p:spPr>
          <a:xfrm>
            <a:off x="249480" y="6172200"/>
            <a:ext cx="283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er Dept name in Title Mas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Line 18"/>
          <p:cNvSpPr/>
          <p:nvPr/>
        </p:nvSpPr>
        <p:spPr>
          <a:xfrm>
            <a:off x="0" y="609588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6156360" y="5943600"/>
            <a:ext cx="301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2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152280" y="114480"/>
            <a:ext cx="259236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8381880" y="6172200"/>
            <a:ext cx="60984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C08DB-92F6-4B44-AE47-F1D427DAE705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58480" y="6172200"/>
            <a:ext cx="1696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uter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0" y="609588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-edlab.cs.umass.edu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Verdana"/>
              </a:rPr>
              <a:t>CS 377 </a:t>
            </a:r>
            <a:br>
              <a:rPr sz="3000"/>
            </a:br>
            <a:r>
              <a:rPr b="0" lang="en-US" sz="3000" spc="-1" strike="noStrike">
                <a:solidFill>
                  <a:srgbClr val="881c1c"/>
                </a:solidFill>
                <a:latin typeface="Verdana"/>
              </a:rPr>
              <a:t>Discussion 2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881c1c"/>
                </a:solidFill>
                <a:latin typeface="Verdana"/>
              </a:rPr>
              <a:t>Amee Trivedi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600" y="3657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Verdana"/>
              </a:rPr>
              <a:t>Fall 2015</a:t>
            </a:r>
            <a:br>
              <a:rPr sz="3000"/>
            </a:br>
            <a:r>
              <a:rPr b="0" lang="en-US" sz="3000" spc="-1" strike="noStrike">
                <a:solidFill>
                  <a:srgbClr val="881c1c"/>
                </a:solidFill>
                <a:latin typeface="Verdana"/>
              </a:rPr>
              <a:t>18-Sept-2015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Today’s Todo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orksheet based on Lecture 2 and 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nds on commands exercise to know the 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Submission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orksheet and “Know your OS” hands on are due on Thursday 24-Sept-2015 5p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urn in the worksheets at the end of the cla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bmit it through moo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Logging into edlab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990720" y="1905120"/>
            <a:ext cx="7086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-edlab.cs.umass.ed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5T00:11:32Z</dcterms:created>
  <dc:creator>Amee Trivedi;Brendan Murphy</dc:creator>
  <dc:description/>
  <dc:language>en-US</dc:language>
  <cp:lastModifiedBy>Ame</cp:lastModifiedBy>
  <dcterms:modified xsi:type="dcterms:W3CDTF">2015-09-17T06:47:34Z</dcterms:modified>
  <cp:revision>19</cp:revision>
  <dc:subject/>
  <dc:title>CS 377  Discussion 1</dc:title>
</cp:coreProperties>
</file>