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565EE-B319-4C90-817E-1AB6EDCAF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EE68F-D8A1-47BE-B41E-D4FCC3379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BC64-D5BD-4B89-8EE4-13197CB7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DDFB-4C09-4805-863B-27218021D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F9D28-48E2-4989-8FA1-E86AF28C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F9CA6-2101-454A-B5E7-1348E564B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43A5-70DE-4CFB-BBEB-C5115AC59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8E74C-474D-4381-B278-F4BE7098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5DF72-7882-4821-8EF5-5F6A479D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93B43-F38C-40D3-81EA-6F37557FB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88F0-B8C4-48F5-92CC-F504FF942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2B1C-F8C8-4A6E-9061-5C44A2CB6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13F0-7D51-48F6-9D87-D759B1F53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360A-246F-4CDF-AA01-3C9C952E2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43AC-8485-43D0-8752-FA016819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D270C-6B36-472A-A2B5-82E61303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8E292-EAD1-4F0C-BA38-14F4778B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630E3-2010-414B-B2B0-E1A68689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03D4D-A13F-4F8E-ACD6-045549E18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9109-6A8A-4001-BED9-DC7215EBE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3668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92120" y="137160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3668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92120" y="3718440"/>
            <a:ext cx="26240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609120"/>
            <a:ext cx="883584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240" y="371844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7240" y="1371600"/>
            <a:ext cx="39772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18440"/>
            <a:ext cx="81504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5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AB4C4-018A-43C7-B33A-32C73FD94292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254160" y="6172200"/>
            <a:ext cx="287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Slid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-2133720" y="2631960"/>
            <a:ext cx="4267440" cy="4226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447920"/>
            <a:ext cx="68547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676520" y="830160"/>
            <a:ext cx="1218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5" descr=""/>
          <p:cNvPicPr/>
          <p:nvPr/>
        </p:nvPicPr>
        <p:blipFill>
          <a:blip r:embed="rId7"/>
          <a:stretch/>
        </p:blipFill>
        <p:spPr>
          <a:xfrm>
            <a:off x="227160" y="357120"/>
            <a:ext cx="3049560" cy="405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6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7"/>
          <p:cNvSpPr/>
          <p:nvPr/>
        </p:nvSpPr>
        <p:spPr>
          <a:xfrm>
            <a:off x="249480" y="6172200"/>
            <a:ext cx="283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er Dept name in Title 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156360" y="5943600"/>
            <a:ext cx="301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2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52280" y="114480"/>
            <a:ext cx="2592360" cy="34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381880" y="6172200"/>
            <a:ext cx="6098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6588B-D36D-4580-953E-CF364FABAE30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8480" y="6172200"/>
            <a:ext cx="1696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uter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CS 377 </a:t>
            </a:r>
            <a:br>
              <a:rPr sz="3000"/>
            </a:b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Discussion 1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3657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Verdana"/>
              </a:rPr>
              <a:t>Fall 2015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uch like structs, except usually contain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re inherently pri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nd functions grouped by access spec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 have multiple instances (o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381560" y="3276720"/>
            <a:ext cx="293364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096920" y="3284640"/>
            <a:ext cx="22287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: Funct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wo ways to do function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 of normal w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096920" y="2378160"/>
            <a:ext cx="5560920" cy="27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lasses: Function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 of other w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189080" y="1892160"/>
            <a:ext cx="633420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riables that contain memory addresses to other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claration: type*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274760" y="3089160"/>
            <a:ext cx="220032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sign addresses of variables to pointers using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 values of variables that pointers point to using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following example is a true state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03200" y="2664000"/>
            <a:ext cx="3086280" cy="628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306440" y="4754520"/>
            <a:ext cx="207648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amp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mean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dres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an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alue a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Referencing and Derefencing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n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t memory location 100 and </a:t>
            </a:r>
            <a:r>
              <a:rPr b="0" lang="en-US" sz="20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numPoin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t memory location 200, what are the values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54080" y="1533600"/>
            <a:ext cx="3152880" cy="120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096920" y="3679920"/>
            <a:ext cx="173376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Pointers: Structs and Classe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 access a field or function of a struct or class that a pointer points to, use the -&gt;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847800" y="2730600"/>
            <a:ext cx="3267000" cy="2390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61080" y="2468520"/>
            <a:ext cx="32763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C/C++ Warm-up Exercise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0880" y="1219320"/>
            <a:ext cx="8153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al: Given a text file, arrange the word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g: Text file contents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come to CS377 Discussion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program output will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S377 Discussion Lab to Wel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alyze the performance of your implementation for the below st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rem ipsum dolor sit amet, consectetur adipiscing el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etty bought some butter but the butter she bought was bitter, So she bought some better butter to make the bitter batter b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3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ue before next week's discussion section, submit through Moo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Ways to solve the probl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the different ways to solve this probl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Administrative Stuff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rpose of this discussion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ep up with reading and lectures (short quizz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view course material (working out proble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ffice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Wednesday : 3:00PM - 4:00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riday: 2:25PM – 3:25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oom CS207, Cub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Link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/C++ Refresher lin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fstream: class to read file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Verdana"/>
                <a:ea typeface="ＭＳ Ｐゴシック"/>
              </a:rPr>
              <a:t>http://www.cplusplus.com/doc/tutorial/fil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tline(ifstream, string): gets the next line in the file, saves to string http://www.cplusplus.com/reference/string/string/getlin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tok(char* str, const char* delim): multiple calls split the input string into multiple tokens, must specify delimiters http://www.cplusplus.com/reference/cstring/strtok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ing1.compare(string2): determines if string1 is alphabetically before or after string2 http://www.cplusplus.com/reference/string/string/compar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8358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600"/>
            <a:ext cx="8150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pen(), fread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thegeekstuff.com/2012/07/c-file-handling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ing manipulation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://en.wikibooks.org/wiki/C_Programming/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Announcemen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ion Labs can be done in groups of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cussion Lab forma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Courier New"/>
              <a:buChar char="o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: 3-6 questions (short answ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Courier New"/>
              <a:buChar char="o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nds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 C/C++ as the 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lease bring laptops for discussion la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Today: C++ Review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++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Aft>
                <a:spcPts val="1426"/>
              </a:spcAft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orksheet + C/C++ warm-up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llection of data, short for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8548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371600" y="2701800"/>
            <a:ext cx="237816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difference between a structure and an arr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hat is the difference between a structure and an arr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tructure can have different data types while an array has all elements of the same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 arrayofints[20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322200">
              <a:lnSpc>
                <a:spcPct val="100000"/>
              </a:lnSpc>
              <a:spcAft>
                <a:spcPts val="1137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8548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2378160" cy="17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 have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158840" y="2301840"/>
            <a:ext cx="2305080" cy="2295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572000" y="2216160"/>
            <a:ext cx="291456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881c1c"/>
                </a:solidFill>
                <a:latin typeface="Georgia"/>
              </a:rPr>
              <a:t>Structs</a:t>
            </a:r>
            <a:endParaRPr b="0" lang="en-US" sz="3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8088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ields are inherently public (access specifi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88"/>
              </a:spcBef>
              <a:buClr>
                <a:srgbClr val="840c22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208160" y="2286000"/>
            <a:ext cx="3181320" cy="255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0:11:32Z</dcterms:created>
  <dc:creator>Amee Trivedi;Brendan Murphy</dc:creator>
  <dc:description/>
  <dc:language>en-US</dc:language>
  <cp:lastModifiedBy>Ame</cp:lastModifiedBy>
  <dcterms:modified xsi:type="dcterms:W3CDTF">2015-09-11T13:48:18Z</dcterms:modified>
  <cp:revision>15</cp:revision>
  <dc:subject/>
  <dc:title>CS 377  Discussion 1</dc:title>
</cp:coreProperties>
</file>